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992E-9C8A-46FE-9072-FF6FCB219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51A-19D5-4438-8569-C226DDB6B8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BB3-4DE1-424A-B61D-B59E9AE05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31720566-2BA2-4860-BFD3-6404F46F2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034B-B875-4610-BB47-00F56944D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ED21-8206-420C-89BF-6EE50D831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2F6A-D15D-49A4-82C9-99FED65E3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9F2F-BC2F-4673-89E2-B1C43C559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AA00-4DF9-4705-89B7-DB5A925AB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49C3-A541-48C7-BE3C-F2B112935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9DF6-11AC-464B-BE1B-3137B7E0F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2A58-B3B7-48FF-92AA-A52934803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C5EC-EAC6-45A6-8C73-0C5EBB0E9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A1EB-231C-49C0-85F3-0E6EFD06B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387B-4CBF-4220-903B-F3592F656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0952-850B-4318-9703-38A9C3187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3504-64D6-4257-B66E-4536DB18D12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1763640" y="6218280"/>
            <a:ext cx="600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2499840"/>
            <a:ext cx="56246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ssion 3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gricultural Growth &amp;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Transfers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: 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4332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Seminar on hot topics in agri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Bruxelles, 12-14 July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71880" y="407196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Nicholas Fre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sed on balanced allocation of 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B6A-6908-4DE3-A8C0-4C662627895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10"/>
          <p:cNvSpPr/>
          <p:nvPr/>
        </p:nvSpPr>
        <p:spPr>
          <a:xfrm>
            <a:off x="500040" y="857160"/>
            <a:ext cx="5572080" cy="5357880"/>
          </a:xfrm>
          <a:prstGeom prst="roundRect">
            <a:avLst>
              <a:gd name="adj" fmla="val 25963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ounded Rectangle 9"/>
          <p:cNvSpPr/>
          <p:nvPr/>
        </p:nvSpPr>
        <p:spPr>
          <a:xfrm>
            <a:off x="3429000" y="857160"/>
            <a:ext cx="5143680" cy="5357880"/>
          </a:xfrm>
          <a:custGeom>
            <a:avLst/>
            <a:gdLst>
              <a:gd name="textAreaLeft" fmla="*/ 390960 w 5143680"/>
              <a:gd name="textAreaRight" fmla="*/ 4752720 w 5143680"/>
              <a:gd name="textAreaTop" fmla="*/ 390960 h 5357880"/>
              <a:gd name="textAreaBottom" fmla="*/ 4966920 h 5357880"/>
            </a:gdLst>
            <a:ahLst/>
            <a:rect l="textAreaLeft" t="textAreaTop" r="textAreaRight" b="textAreaBottom"/>
            <a:pathLst>
              <a:path w="21600" h="22499">
                <a:moveTo>
                  <a:pt x="5608" y="0"/>
                </a:moveTo>
                <a:arcTo wR="5608" hR="5608" stAng="16200000" swAng="-5400000"/>
                <a:lnTo>
                  <a:pt x="0" y="16891"/>
                </a:lnTo>
                <a:arcTo wR="5608" hR="5608" stAng="10800000" swAng="-5400000"/>
                <a:lnTo>
                  <a:pt x="15992" y="22499"/>
                </a:lnTo>
                <a:arcTo wR="5608" hR="5608" stAng="5400000" swAng="-5400000"/>
                <a:lnTo>
                  <a:pt x="21600" y="5608"/>
                </a:lnTo>
                <a:arcTo wR="5608" hR="5608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3920" y="928800"/>
            <a:ext cx="7286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-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p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subsi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/pri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od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ool m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. f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3200" y="928800"/>
            <a:ext cx="4827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1B1-3444-4F6D-BF6B-5CC1E0151CE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2960" y="307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286680" y="28875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 rot="16200000">
            <a:off x="-2473920" y="3300480"/>
            <a:ext cx="55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oorest                                  Least P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 flipV="1">
            <a:off x="356040" y="2356560"/>
            <a:ext cx="1080" cy="271548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TextBox 20"/>
          <p:cNvSpPr/>
          <p:nvPr/>
        </p:nvSpPr>
        <p:spPr>
          <a:xfrm rot="16200000">
            <a:off x="5986080" y="3443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rovision      Prevention     Pro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2"/>
          <p:cNvCxnSpPr/>
          <p:nvPr/>
        </p:nvCxnSpPr>
        <p:spPr>
          <a:xfrm flipH="1" flipV="1">
            <a:off x="8786160" y="428544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Straight Arrow Connector 25"/>
          <p:cNvCxnSpPr/>
          <p:nvPr/>
        </p:nvCxnSpPr>
        <p:spPr>
          <a:xfrm flipH="1" flipV="1">
            <a:off x="8786160" y="242820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AND REFORM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facilitate access to credit as collat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allow exit from agriculture through 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benefit for land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or benefit for small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impacts on excluded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increase vulnerability of sel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1FA-43C0-4904-B107-60A46423DB9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FRASTRUCTUR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sts of transport/co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nsum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commercial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y-pass poores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apit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 maintenance/ deteri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EEA8-3AE5-47D5-93FE-6A82BC25B83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ICRO-CREDIT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comes crit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s income and agric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est won’t take the risk of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F0B3-14BA-4FAA-9730-D97B852615F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OP INSURANC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s investment in higher retur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to small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many successful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BAC-405F-4882-8DB9-010720507E8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PUT SUBSIDIE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ck-start pro-poor growth (eg As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benefits captured by the better-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use of in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kage across b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cash transfer to the poo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lude those without land or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ADA8-C407-4D94-99AC-547F113A19E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GR/PRICE CONTROL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price 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motes foo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impact of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xed impact of high/ low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our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political inte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stabilisation role of private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BAAD-8B5D-4285-B3D3-BE8DA10803A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UBLIC WORK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2174760"/>
            <a:ext cx="42861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useful assets/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househol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timulate labour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uld be demand- not supply-driven (NREG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multi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on-farm labour 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f”-targeting excludes those without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ow market wage rates perpetuate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t benefit is mar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ECE1-7635-40B7-A96E-7D23AD5EE58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SSET TRAN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agric assets an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diver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of asset to loss/th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for training and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may be sold before investment is maxim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F190-5101-477F-8420-33859BB0A11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parate Policy Domains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gricultural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480" y="2174760"/>
            <a:ext cx="42116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960-A56B-4F3E-A7C2-DE8C081D596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H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buy local food, stimulates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s health, agric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plier effects in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nger of inflation in weak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reduced value of transfer if prices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E376-CBCC-4886-9575-18003B3083F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can support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health and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’l purchase is disincentive to local produ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iangular purchase may shift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may create inflation and distort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wd out private sector trade/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1022-E2DD-4309-97A4-A526303500F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CHOOL MEAL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earning out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t intergenerational transmission of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ong-term quality of agric/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ndermine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s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09B-7E8D-447E-8041-843286412D2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RAPEUTIC FEEDING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ential for local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296-6FD0-4F84-85B6-95C8FB16E19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ix Point Policy Agenda”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(Devereux, 2009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680" y="1500120"/>
            <a:ext cx="82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 inputs to farmers on time and at affordable pr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engthen rural markets to stabilise commodity prices, especially of staple fo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essential rural infrastructure and enabling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ure vulnerable farmers against agricultural risk, for instance with innovative mechanisms such as weather‑indexed insurance schemes and guaranteed employment legis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away from imported food aid towards local sourcing and/or cash transfers wherever local markets and cultural contexts (specifically gender relations) permit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lare a moratorium on small‑scale ‘pilot projects’ and support permanent national social protection programmes that are integrated into broader agricultural and development poli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8D5-302C-4444-8022-14103C47EC3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5615-620E-49E4-BE87-A2FFFDAE5B2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EF52-8715-4992-BD4F-70BA4EDA187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20AA-200C-4838-BD68-25E1E547DC2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FB1D-4DDC-4DF7-B31C-CA39201DF18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8E1-EE53-4F8E-9D51-62AB84D565B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3DD-D671-49C1-8C23-6BA6789E6B0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48D-00A8-488F-B350-A1C6CB96ADA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John Rook</dc:creator>
  <dc:description/>
  <dc:language>en-US</dc:language>
  <cp:lastModifiedBy>Nicholas Freeland</cp:lastModifiedBy>
  <dcterms:modified xsi:type="dcterms:W3CDTF">2010-06-09T10:18:23Z</dcterms:modified>
  <cp:revision>125</cp:revision>
  <dc:subject/>
  <dc:title>PowerPoint Presentation</dc:title>
</cp:coreProperties>
</file>